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133-FA3F-444F-89DD-716640F6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D83-4BE0-4CDC-904C-66C30465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0EDD0-BA30-4F9A-AFC3-E25A6D58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BC7B4-7344-4413-8A64-D0CE29F4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9DC25-A8F1-4C27-B1F8-E9F9F54B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E354A-50E0-4B5A-918C-C3566DFC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0BEAA-968E-494F-BD39-B5711A9C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D8E48-BEF4-4346-ABDC-4D6D5DB6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6F1BD-DD74-4A6B-B933-F86551D4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ECA52-7399-4B6E-B825-0BC0A878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0B8BF-4D36-4397-BF40-C4DE46EA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B6164-D3C5-4E42-AC22-70ACA9B0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E2E-A36A-4D81-A65D-1FDA5576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BE06A-F7D2-473F-BC67-BEF95235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BDE14-785D-4722-8575-787784D9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B17AA-82FA-4C7C-B177-1A5D66E2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5E800-7760-4673-8991-7A086A15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3354B-292F-4830-8182-7B95D3A3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39C8D-CDE0-4A65-A5B9-CBC93DE3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F64B4-132E-4760-B2EF-02297A80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C8883-512E-41A3-A217-3A030DB7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6856C-D6A6-45FE-BE16-EABD15C6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C2787-ABEB-48F6-A164-1587BCED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8A5-1509-4A22-9C78-70F6A608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4B147-FEDC-4D37-93B1-07C1B61E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3FEA5-0353-43FD-86ED-36DF1E7B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5B813-4362-4411-B142-CBB8F3C6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C5D26-27F9-4275-9D38-A822C2E5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ED41C-8712-46C4-A288-8E0AC3CC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A4589-D907-490E-BDFB-27AD608F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C747C-0081-4AA5-8C8D-290E1C63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9F604-B9AF-4D3C-B930-B47DDAF6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DD874-609E-417B-9FC8-693DEAFB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E907E-6E09-48F6-AA73-6A5F7BF1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F770-B777-4AD2-BDFE-B4F0A421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30E45-42F7-4633-984B-01A3819D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65D83-B83D-4AFA-9BBC-D342E429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87078-DC52-4B79-BEAF-F9DC34D7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F656E-2048-405C-9DB0-70084BDC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12314-1B2A-4385-8BC6-F22BF06E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22AEA-795C-45D3-A004-8A0B49DA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B0AA3-8FE2-47DF-87CA-2C0E441C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FA37A-E002-45EF-A1A2-03447610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B16A2-7A42-4F76-80F8-A899D6B6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BFEE7-E430-45D7-A390-577B1DFF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DFBE-629A-47C2-AEBF-5EC7F210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8134C-D744-4BFB-9265-442FCCD7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FCDE3-5174-4A85-92D2-492905CE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C9DCD-1BFA-4E82-ADE2-A587A69F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87ED1-3CB3-4D15-A3F5-C4B4EE37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B7568-7643-4974-8DA9-EC6F81FE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EA2297-2690-4FC3-AC54-388914FD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ACE02-0439-4A91-8ADE-88D444CE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3EE33-1074-4AE6-ABD9-62B2EEF2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5ED76-58F1-412F-87A6-8F185C0A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581B1D-AA48-4D48-8266-DEB67F9D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749F-B3B8-455E-92E0-5A66869C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2ACB5-179B-43FB-8449-4D959B92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F86D9-6EF4-4C35-B158-5366855F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72CFB-0101-4126-89A0-1334CF5A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5160E-8DC9-465E-BAF7-CC13B2D3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C080D-B7CF-4D4A-B923-91381B2B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5D1CE-3A2E-4D91-BDA1-CB2B1AC7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CDFC3-F948-4312-AFD4-C00B5D69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C0CAD-9234-422B-8DE8-0CAEC4F9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E27C0-B181-4F64-819E-A8F522C3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A697A-A006-4255-B2FF-9F4631A0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610B-4961-4289-992A-83357C29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44F55-71E0-43C2-975E-E52BA828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0427D-5199-443F-AD77-BAAD5AE1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9E7A0-FEE6-40F0-91E2-05BD4FFA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18310-BD8D-44B1-B0AE-C30CD400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BF960-88B7-4A56-B6F9-D587BF7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28656-A30F-483C-936F-F3300004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7ADF3-AE4D-4244-923B-413AA508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273A7-FB77-42E2-A0BA-D990D25F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BFD09-63ED-4637-BEF8-BC6D781B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BBF37D-88C5-4833-83BB-A98CCF9A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3304-829B-4F90-B423-34C87961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04E79-1A3A-4252-939E-5697ACA6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7947E1-AC4C-4CA9-A018-CDEC689D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9A1E0-8756-4E12-8ADE-F16908AB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4398B-31ED-4715-823C-D7A5C102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A142D-7D9A-46E3-A14F-712EE472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8C0DC-BA5D-4C48-862E-CAD986CD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EC408-60A6-42FB-BA15-0C0F212F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6E2ACB-8C8D-4875-BF5E-1F66A71A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37DFC9-6E56-4A10-BD8A-344AFB9E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5C36E-5816-4A13-8CB5-6E18F63A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2901-F541-40CE-B360-A60A25B7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63BEC-44EB-4549-A566-12888C51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66F20-53AC-40C6-AB27-3C0C2975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6C17B0-8535-4973-BCEB-A0D489F5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370E1F-F3D7-4F4D-BF30-D5766926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7BDC5-B1AC-446A-B205-018682B7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94F92-9A7C-4E0F-9008-F755F8DE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FF040-6A09-4550-8AD7-A06600E8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ABE6F-86F0-4B31-9BEA-96F52280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558AF-E697-45EB-B94C-550C64E2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2C76DC-3952-4E34-8DF4-EB8CE53F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71E0-0C85-4BCC-A24A-9E9C3F81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08BB9-5355-4B4D-9FFD-9E0B89C9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875F0F-10B8-4154-BA1F-B9BE2E6D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E42988-4881-4DAD-A798-9127037C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08E31-FE8A-490E-B2CD-3DF188EB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864AE-D200-4711-AACD-E390D116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5CF6D0-6901-4399-985D-FABA05FB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A551F-EB24-4B00-A45C-3655705E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BDF5C2-3036-4FBA-A81C-1B850CC3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A48F8-4274-4AA2-9482-AB79E583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48931-3722-4520-815E-943F31D6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975-A4C4-46FB-AAB4-251CCBEC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695C-5894-45E0-823C-7B557E49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918CFA-4A58-4ABD-BC5D-F68CFF65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1365C0-B610-4169-8D01-5811228E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362EF-3084-4921-BD0B-19EBCFB0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A5BEAA-EEAF-4678-B0AF-1D67AD0E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603A07-1E08-4A6A-A9CC-F2FFA179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B37DF9-C2AA-4F40-BA3B-E8BB2ED8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1AB69C-71E6-4B96-91A6-9E181C0C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A03B90-11CE-48F9-B60F-CD561269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7CBAC-B2DD-44AB-81AB-03CD264B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AD70B-B87B-40F9-9701-6643E960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BEDF-CCDF-4F96-911C-D75EF57C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2AB142-BE35-4456-BAFB-0219BAE2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3302EB-8D97-4C3A-AA1B-0DA6F4E1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9924C-CFA9-41C6-85AB-30828D79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5E6E57-A21F-454D-AF7E-612CDCB1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A00B51-77B5-46A1-986C-DF10E363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406CC8-6AB9-40B5-BC50-DC3E9B47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CFAB3E-49FC-472D-824D-EFF05BD6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F8240A-4BB7-4886-A211-0EA58C85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9AB136-84D6-406D-8DC6-F0E8F76A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543DB3-A465-48BA-A9CB-ED519F92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3D82-FA5B-4F65-AD28-A653AF82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1F87DA-11A6-492A-8C74-0DB480E0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C8CE3F-9AEA-468E-922A-AC8BC7D0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5248AF-56F1-48FC-86C0-18F51680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D16EBB-C242-4E5F-A284-0A3331D6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43C3C4-02D2-44EA-9446-B242C01C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D91CE1-238D-4405-9DF0-E45EF099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FD4A4-83EC-4FBC-9C7F-BE2DE545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7274FD-6C32-4F58-8681-674EB651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370981-AF57-42A7-B30B-C12BEE86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47C870-7D4C-4B52-8404-E773757A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0183-F403-42DE-9E5F-956E20CB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9FEE48-64A2-4D02-A2F4-F8F86729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F9EFC6-9E05-4B6E-A1F2-34B7DC08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99ADCF-ECE0-4BDF-BE39-F2E5E05A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B58F40-94B9-4D89-BEFB-1FC75B07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B0E5CD-64F5-4CF0-99BD-981FA4E3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4E818F-7D8A-4E02-8EAF-45B3973F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02880B-3C79-4BA5-8D1C-2E29D416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8D87E4-D43D-4A33-B18A-F8C2E73B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22515D-B399-4B27-867E-043CC79C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E1A4BF-7072-4B89-BFBE-E23D2D35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F8DB-C429-4718-8226-095EED0C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8A2FAB-397B-4C55-B424-8F959610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F5F78E-89DC-4315-8120-E5A499B6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CB87CB-8384-4938-813E-71FBBD02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A0A572-BFE5-446F-9B7E-28286E86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8860B-216F-40F6-941C-F0ABE3AD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CB8A3C-9DDF-4A51-903D-596FF339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5BD5F6-5987-42F9-8B2B-CDF5B178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EF0B9E-063A-48A5-98D6-5095AF16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16710D-F554-4942-8442-A8D7C8CC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0D0827-6C9F-4D74-90C4-DE6E43F0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EDB2C-5E13-4897-8EBC-E19718ED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217E32-5482-4E76-98E8-81D097BB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C84BBC-7859-4AB1-B53E-99B73F20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88AFB8-EDE0-4968-A7CD-E3D0A337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1B90C1-9FC2-4664-9954-FB080F8A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BC26F4-B7F0-4600-B8FB-6A7A2CA4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724893-7B6D-458C-AC82-7A233A00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21A09B-6C12-4651-9592-E1FFACAB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256E62-DADC-444D-A912-9EBA2404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A90C62-0CEE-4698-8D15-D07D0464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7656AB-C617-419B-BF70-0743479F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BB45D-81D1-4F85-A95A-307032C7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39CA1B-0D6E-4F7B-98D2-6DFE739E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27A425-C4E7-4EA7-BFCC-6D780075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D4411D-8A09-4123-87E9-A2900930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510BEF-0238-41F9-9377-64E6D1C1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95B2D8-4E3F-49F0-92BD-729F1A52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419739-C32C-43B2-ADB0-FCA722E8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4557DA-DF6A-418D-A8EE-6E6DDDC1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C1BC76-17DA-44D5-86A9-DB8E468A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B594D0-D4E2-442D-B9C9-6E0005B5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C6256A-7C8D-4C76-AFA7-6C897212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8E41-B19D-4104-9C22-E7D6740B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DC5154-F844-4CB4-A3F4-6E66E7AD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D58712-F154-4369-974F-A15B6F5A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1ECB65-7834-430B-B419-209DF7A1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534F42-1D6A-498F-A8F3-F6C3532C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25204D-AA09-4E77-987E-FCA6CA16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762DFB-E4E8-4C93-BFEF-DF932CD9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0C7743-43C5-4978-9337-612D217E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584E3E-C1AE-47FC-A0A2-E93F9659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1F1147-A618-4182-87C2-2C4006D1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142F28-A719-4FBF-9F35-D750E051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CD79-FA3C-473E-8B5D-207EFBD9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9AAD55-CDE2-4141-8C7C-EC98415B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3C4722-C152-4075-81BD-BBBAB33C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B7EF0F-25B6-4839-903B-9B98F774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D5A571-1879-44FB-AC63-C0BF228F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0AEBAF-A6FF-412E-8A66-5E3391A4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B5BD53-53BE-46B7-BC0F-FB63B0D3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4A77CD-1313-46F8-A213-C7DFC5F9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0D0B6D-E486-490B-BDEA-C0F4A957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5CCB64-0AE8-47FE-A577-3665A1E4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5175A8-B55F-4566-8D00-0AA7C001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92CBB-5B54-4491-A0B5-6524698F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01299C-49CA-4D74-A8FA-C52DEE78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5433E5-0226-4B70-BAF3-B17E6629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89ACBD-18EC-46A1-AB3D-65B4DB64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69629A-6749-4B4D-8638-ACB0BC89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A55484-91A5-498F-BB2F-420BC808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670D49-8965-4114-B324-71ED508F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FAE264-6454-453E-89B0-BB356EEC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D4E290-A4D0-44A5-ABDE-82F768D0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B10788-ED13-4978-B54E-F4B791B4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BFB25A-8BE3-43C0-964E-2A40559F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B49-A548-4D49-A363-2D2C7AE4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ABFF-F29C-4F4A-88D4-1FE8206A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096BE4-5EA8-465D-A645-C842DFC6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AAAB05-6AE9-49BF-B324-43B3809B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9E3110-5ABB-4DF1-82E1-40E4AD3F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6BA391-8CF6-46E4-8924-7CA08FA7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5E3710-4952-48B0-8039-648F15E5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A2CD3B-3F3F-4994-80E0-815564E8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07EDB4-025C-4404-948C-0774597A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B1CEDA-43F3-475E-AF8C-0B7278EA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C8E22B-F283-4F48-84C4-F2CA3B97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2B9750-9E0D-446C-BC81-A8F313B9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6830A-FDFC-4BFB-88D4-202AF772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C64F38-5410-420D-BFA1-F2A2115F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763DF1-3977-4E4D-A91A-FD04126B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7F1BE5-7671-4C3F-9ACC-341F2639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6E48BE-9924-4B16-9E29-828B9139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85859F-10FF-4E87-BA09-8C6F72B5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DED841-2EC7-415C-871A-AC332E98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DF6478-617D-48DE-8F76-9699B322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BCE8C0-7656-4185-8EBF-CBD0E56A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FD315B-544B-4C31-B1CD-0AA086F2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A3035A-2BC5-4F20-B427-6208DF74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B79C5-0EA4-4480-B06E-36217530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A7E012-2E65-48B9-92C2-072E9548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090D59-14BA-4229-A058-661FF016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6843A7-612E-412F-876A-9889BBEF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F9C4F1-8177-46DF-B834-C77A1795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803786-8504-4DB4-AAF7-9B99B01C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6B2BC0-884C-47DE-A68C-C5224329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FE8D3B-2E74-4817-A081-26618F27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50FD9B-F486-496F-9922-4E020314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0CF488-5849-4DF5-BF4A-2BCB3162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E4CE6A-78FD-4E77-9B59-FBE9ADB1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5BE62-0E65-4AA1-B62B-B6CBD1B6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154A43-3EE2-45E0-B344-00FD22E1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DBBF84-4B5F-442F-ACA5-A8863B3A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2F8A81-CCC5-4C25-A692-16E59A3C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232DAC-37D9-42DD-86B1-4586DDA1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FF9809-8258-4D73-876F-5868B3E2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B62058-582D-45B8-B6F8-ACE71128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8C46E3-1FFF-48FD-AE54-0EC0FB04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F44EF5-B52A-455D-800F-D46858E0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03BCA2-FA65-4EF0-A61F-1807A5CC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922243-FBD0-41F3-B177-6A92775D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5052-F70E-40A8-84F5-3F293731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2DCAB1-568D-44C1-B116-68EEB80D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D52C0E-49E4-4B1E-B5F2-C7F1B66D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5BB2B9-9DD0-4EA7-A08C-95B73FF8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841D1D-5F75-4F51-B2AE-2E822A2E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06C648-FDDE-4F0A-B253-6541B4CC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B1A958-C24D-483D-9E08-D38404D7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BEA002-3A6A-4099-9CB1-C77FD160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E39061-2614-42B6-B175-4B669D12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29ADFD-C88C-4F5E-8632-65598331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F2AD7C-56EF-4D2C-A07C-A09C9D61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FDAD-F277-40AC-A246-CF1DE4FD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215483-31C6-4AE8-9856-058935DC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7A9E33-89AB-4462-82E4-D624648C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C703E5-A5A1-4126-A2C9-268B9A28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AB605E-CA6D-440E-B1BD-454A4F53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1097ED-1768-494D-9051-4CF03D6A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20FCE0-4C5E-4A41-B505-EED5BC53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8C515A-42A5-45F7-A607-3589EAF8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2B185B-3155-490F-8D3E-4AF0F963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1E6742-94C5-4BC7-8CA4-184844B3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F31C03-C78F-4334-96FE-CBF13A36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5EAF-3301-4961-875B-87FFDE24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11001D-C26D-43F3-9A23-0278B59F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EDFB15-ACC3-4143-805E-13FBB783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76A0FD-434E-47F0-BBEF-CB72010C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A18224-046A-4C29-B5AC-3276BFA3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52295C-09D4-4F56-ADA6-BE9C9BDE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E7EFFC-6D1F-40C9-A4DF-9D9E7778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744DE7-EC30-480A-906D-7088858C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BBE7CD-CAB6-493F-AA50-231546A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B9C42C-EC46-4350-815A-F798E962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843562-98BC-48E2-86B5-D25EAB54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A3AD3-C962-43D2-A63D-4B22FEC7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6904D3-2EDF-4975-B332-DC3245DD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9EB901-50E8-43F4-8054-AD06D1F6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14E383-44ED-4E55-A8CD-11AF7459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B7F1E-B348-4A21-BE00-A06E4982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62DD3-5F48-4C7E-8D6A-B80DCF23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76F-E399-4168-880E-559EB0A2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EE3A9-D1EE-443F-8F01-78B4B2CE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F435F-9101-4C42-90CC-F6AD1CD1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96443-DD86-42E8-8160-8D955FE2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2A00F-9EB7-4410-8F2F-6D8F9A21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3EC32-B679-4EA3-A50A-972AC041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C5928-A4EE-4309-BBE0-BA63957A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27264-D878-4A33-A29D-0CFABAA4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4EDA6-3065-4B2C-B730-79B79410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18623-93C3-4FE0-98BB-DEE70CBD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77F3F-9678-43F2-9C98-54B066ED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78D-B291-4C3B-9F88-0B414437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267E4-2182-47DD-A655-E1E2413F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9ECF8-AEC2-4D19-ACA1-D6C2A243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25421-21BE-4B23-BE48-15AEB2FD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2774C-AF6E-4863-8D73-81D1C9CE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F0557-1931-4938-B5CE-2DB02880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22A10-35A9-469B-ABBA-22BBBD6B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567AC-7554-414C-B24C-C506621C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E5692-A706-4405-86A8-D64E74DD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DFA72-E085-49E0-89D6-BFA9D017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56486-0838-4CB3-89EE-7E1DAC0D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893-1081-4CB4-9DEB-4E26C3C2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9A2D-FE85-47AD-82CF-11969C5F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FFB83-F8CE-4865-B134-D82724E5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613A0-C1D4-43C5-8832-B61DCE0E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00BB6-7BB6-499D-9F1C-6CF3B737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25612-CF50-4A8A-B41F-308D95FE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8D179-9E77-48B7-8C02-09B633A6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6E2C3-F758-49FB-B0C9-3F008768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1A62D-ACD1-4B4E-9C0A-9F4122AB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1E2BA-DC6E-4625-BAD4-C7EE5B4D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EC7A6-4261-42EF-B471-09D876C8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285-D334-4E64-B790-48A2359C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2DEE9-56E9-425C-B667-F1572B4E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BD942-DE72-4284-8DE1-E687ED39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ABA4A-C5EB-40E0-AD34-8471940E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4112C-3675-4C73-9F76-4A825524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32C1A-A4F7-44F9-994A-75F9ECE9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0C779-341C-4AF1-BAB9-F6EA406D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784DC-7393-4BA0-AB59-E5F7637C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25AC2-8394-4C42-8ED8-D0E56379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5F02A-BA19-4DC6-8C67-983BEAC7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71C1F-A3C7-4B14-A58E-71BC94BE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D82-B259-4E39-B407-821B5DDE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A63EA-5E87-4472-A8AE-25C7AFF9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622ED-E264-427B-8831-F0BA09CD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1234F-FF92-47D7-AAD2-10491BE6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7C2E8-1850-4A02-B4C5-7170C68B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05606-E8AB-4782-956F-CF0F9A4C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D4D56-A955-4D36-837D-82415B56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A835F-1884-4ACE-896A-8A7B6971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F4A53-C4AE-4D88-8380-33733311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763F3-8E5E-43E1-AF61-73ABF983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C3C1E-E778-4B72-8C6D-F4E4B0B1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6E2-3994-43DD-875E-796625B1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13948-6094-430C-8324-230B5D3D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15F9E-17B1-4668-B0E0-4FF613AB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81DAA-4A6F-4048-8102-4A538A8A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DE672-D239-43EB-B642-57E06313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33CAD-DAAE-4037-9151-EE552535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E66F6-34FE-43F3-A1AC-D7E1806D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77FC4-58B8-418C-8BA5-1C981FEB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1210B-71EC-4D0B-A020-4EFA2BD8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31640-3992-4497-86BF-C2344B29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AB960-BB3D-4723-96DE-60452063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9819-F0E2-402F-9309-3E8C58B802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0F3E-35FF-4E89-A8BB-0181CBC3C8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7A85-5AE6-49A2-80B5-C89626E8F9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2166-AD8C-4794-8828-4AA798A83B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AF99-3A3C-4E58-9564-3079025A24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>
            <a:off x="2314440" y="4255920"/>
            <a:ext cx="451008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473F-CB48-4CCC-9E1F-87771851E8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B9B2-70E4-40B1-A9AD-ECF3108967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2232-1EF5-4D12-AC33-CFCDE47324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6408-7547-40DD-9A62-1FD9C95FF4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5" descr=""/>
          <p:cNvPicPr/>
          <p:nvPr/>
        </p:nvPicPr>
        <p:blipFill>
          <a:blip r:embed="rId2"/>
          <a:stretch/>
        </p:blipFill>
        <p:spPr>
          <a:xfrm>
            <a:off x="0" y="1397160"/>
            <a:ext cx="270972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6434280" y="1397160"/>
            <a:ext cx="270972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矩形 8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bfbfc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2F7A-B901-4F73-A8FD-CEC7C9E358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5FF1-782E-476D-BDBA-9D442FC48F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67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65C3-6406-4240-AEA8-441FF47653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AA67-D22A-485C-9262-92B70DCC0A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C080-C17E-4025-832C-E721CDAC4F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9498-1832-4372-BDAD-E1AEE56B5A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图片 5" descr=""/>
          <p:cNvPicPr/>
          <p:nvPr/>
        </p:nvPicPr>
        <p:blipFill>
          <a:blip r:embed="rId2"/>
          <a:stretch/>
        </p:blipFill>
        <p:spPr>
          <a:xfrm>
            <a:off x="5622840" y="2193840"/>
            <a:ext cx="3292560" cy="2470320"/>
          </a:xfrm>
          <a:prstGeom prst="rect">
            <a:avLst/>
          </a:prstGeom>
          <a:ln w="0">
            <a:noFill/>
          </a:ln>
        </p:spPr>
      </p:pic>
      <p:sp>
        <p:nvSpPr>
          <p:cNvPr id="759" name="任意多边形 6"/>
          <p:cNvSpPr/>
          <p:nvPr/>
        </p:nvSpPr>
        <p:spPr>
          <a:xfrm flipH="1">
            <a:off x="0" y="0"/>
            <a:ext cx="5484960" cy="6858000"/>
          </a:xfrm>
          <a:custGeom>
            <a:avLst/>
            <a:gdLst/>
            <a:ahLst/>
            <a:rect l="l" t="t" r="r" b="b"/>
            <a:pathLst>
              <a:path w="7314000" h="6858000">
                <a:moveTo>
                  <a:pt x="1714500" y="0"/>
                </a:moveTo>
                <a:lnTo>
                  <a:pt x="7314000" y="0"/>
                </a:lnTo>
                <a:lnTo>
                  <a:pt x="7314000" y="6858000"/>
                </a:lnTo>
                <a:lnTo>
                  <a:pt x="0" y="6858000"/>
                </a:lnTo>
                <a:lnTo>
                  <a:pt x="1714500" y="0"/>
                </a:lnTo>
                <a:close/>
              </a:path>
            </a:pathLst>
          </a:cu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图片 8" descr=""/>
          <p:cNvPicPr/>
          <p:nvPr/>
        </p:nvPicPr>
        <p:blipFill>
          <a:blip r:embed="rId3"/>
          <a:stretch/>
        </p:blipFill>
        <p:spPr>
          <a:xfrm>
            <a:off x="0" y="637236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F59A-C27B-45B4-B4D2-9AA71562AB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3DA9-67AC-4659-B4BD-80C04DCECD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EF14-3301-4D76-BA0C-05CA1CCACE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5940-1334-4F8F-9326-3FC73C1498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93B2-7AF3-43F6-9598-E448491744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CB35-97D6-4262-B3C9-140F28C52E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84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5DE1-A217-4723-AD08-9340E98F48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F321-85D6-4637-B7C1-11CA53D535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89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6BBA-A935-4826-82D9-B597FE9357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CBF0-334A-45DD-9D16-AEC80EAF76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A68D-73ED-4A52-AED7-7BCE069A38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DF16-9EDF-4A58-9A6C-876B0C764B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8" name="直接连接符 8"/>
          <p:cNvSpPr/>
          <p:nvPr/>
        </p:nvSpPr>
        <p:spPr>
          <a:xfrm>
            <a:off x="4206960" y="3930480"/>
            <a:ext cx="730080" cy="0"/>
          </a:xfrm>
          <a:prstGeom prst="line">
            <a:avLst/>
          </a:prstGeom>
          <a:ln w="63360">
            <a:solidFill>
              <a:srgbClr val="3c7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3433-195B-4D32-8B5E-9D1463959A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4806-137F-4FE8-B3B6-9BF903A8B7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8E06-101E-430E-87D9-F257C5DC17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7C1B-EDDF-4FC4-93A7-BB4CC5B505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4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B116-AFE3-4F27-B5AE-2AA38EB270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E775-5DC6-4621-91A7-E455295046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4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图片 6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4382-87A8-4B63-976B-9562AF1F1B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563E-3E04-4FE6-B87C-04EFE36DF5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矩形 4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1156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BA6B-DDBB-46DD-9379-F6673675EF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9CA5-6EC5-4866-BCD8-AFD94CE4EE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矩形 4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1201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65D4-80BC-478C-BE2F-529BFD8D5B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90DF-67BF-4EAA-ACBA-769B02D7F9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3D56-6F7B-4336-93C0-D016986BA4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矩形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5" name="图片 6" descr=""/>
          <p:cNvPicPr/>
          <p:nvPr/>
        </p:nvPicPr>
        <p:blipFill>
          <a:blip r:embed="rId2"/>
          <a:stretch/>
        </p:blipFill>
        <p:spPr>
          <a:xfrm>
            <a:off x="8604360" y="637236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1246" name="图片 8" descr=""/>
          <p:cNvPicPr/>
          <p:nvPr/>
        </p:nvPicPr>
        <p:blipFill>
          <a:blip r:embed="rId3"/>
          <a:stretch/>
        </p:blipFill>
        <p:spPr>
          <a:xfrm>
            <a:off x="0" y="637236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63F3-1182-4EEF-BB44-6DCCDE748E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B494-102C-46BA-8F55-BD009AB581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矩形 4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0" name="图片 6" descr=""/>
          <p:cNvPicPr/>
          <p:nvPr/>
        </p:nvPicPr>
        <p:blipFill>
          <a:blip r:embed="rId2"/>
          <a:stretch/>
        </p:blipFill>
        <p:spPr>
          <a:xfrm>
            <a:off x="7929720" y="5765760"/>
            <a:ext cx="1214280" cy="1092240"/>
          </a:xfrm>
          <a:prstGeom prst="rect">
            <a:avLst/>
          </a:prstGeom>
          <a:ln w="0">
            <a:noFill/>
          </a:ln>
        </p:spPr>
      </p:pic>
      <p:pic>
        <p:nvPicPr>
          <p:cNvPr id="1291" name="图片 8" descr=""/>
          <p:cNvPicPr/>
          <p:nvPr/>
        </p:nvPicPr>
        <p:blipFill>
          <a:blip r:embed="rId3"/>
          <a:stretch/>
        </p:blipFill>
        <p:spPr>
          <a:xfrm>
            <a:off x="0" y="5765760"/>
            <a:ext cx="1214280" cy="1092240"/>
          </a:xfrm>
          <a:prstGeom prst="rect">
            <a:avLst/>
          </a:prstGeom>
          <a:ln w="0">
            <a:noFill/>
          </a:ln>
        </p:spPr>
      </p:pic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FFCB-F1B2-49BC-AD7F-6087F4217F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0454-BABD-4ABA-86F9-AE916BB99F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3D28-AF9C-4735-AF96-9D3FA54A81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87FA-A4F5-4BC2-9828-8492613923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3062-1FEC-4701-ACC0-F178387E2E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72EA-850E-4E14-B366-CF9F2BE290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BC20-9B3A-4025-BE88-E6177F9910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9951-106B-476A-B7B1-3AAD2B48D7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828880" y="2034360"/>
            <a:ext cx="3029040" cy="15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49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2638080" y="3746160"/>
            <a:ext cx="32194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2828520" y="4385880"/>
            <a:ext cx="8938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 fontScale="56000"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5441760" y="4385880"/>
            <a:ext cx="3618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 fontScale="30000"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7" name="图片 40984" descr=""/>
          <p:cNvPicPr/>
          <p:nvPr/>
        </p:nvPicPr>
        <p:blipFill>
          <a:blip r:embed="rId1"/>
          <a:stretch/>
        </p:blipFill>
        <p:spPr>
          <a:xfrm>
            <a:off x="3219480" y="1125360"/>
            <a:ext cx="2019240" cy="3906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0985" descr=""/>
          <p:cNvPicPr/>
          <p:nvPr/>
        </p:nvPicPr>
        <p:blipFill>
          <a:blip r:embed="rId2"/>
          <a:stretch/>
        </p:blipFill>
        <p:spPr>
          <a:xfrm>
            <a:off x="2828880" y="2293920"/>
            <a:ext cx="3029040" cy="4124520"/>
          </a:xfrm>
          <a:prstGeom prst="rect">
            <a:avLst/>
          </a:prstGeom>
          <a:ln w="0">
            <a:noFill/>
          </a:ln>
        </p:spPr>
      </p:pic>
      <p:sp>
        <p:nvSpPr>
          <p:cNvPr id="1339" name="矩形 40986"/>
          <p:cNvSpPr/>
          <p:nvPr/>
        </p:nvSpPr>
        <p:spPr>
          <a:xfrm>
            <a:off x="3862440" y="61246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1" name="图片 132097" descr=""/>
          <p:cNvPicPr/>
          <p:nvPr/>
        </p:nvPicPr>
        <p:blipFill>
          <a:blip r:embed="rId1"/>
          <a:stretch/>
        </p:blipFill>
        <p:spPr>
          <a:xfrm>
            <a:off x="333360" y="998640"/>
            <a:ext cx="80964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6" name="图片 131073" descr=""/>
          <p:cNvPicPr/>
          <p:nvPr/>
        </p:nvPicPr>
        <p:blipFill>
          <a:blip r:embed="rId1"/>
          <a:stretch/>
        </p:blipFill>
        <p:spPr>
          <a:xfrm>
            <a:off x="696960" y="952560"/>
            <a:ext cx="7572240" cy="4724280"/>
          </a:xfrm>
          <a:prstGeom prst="rect">
            <a:avLst/>
          </a:prstGeom>
          <a:ln w="0">
            <a:noFill/>
          </a:ln>
        </p:spPr>
      </p:pic>
      <p:sp>
        <p:nvSpPr>
          <p:cNvPr id="1427" name="矩形 131074"/>
          <p:cNvSpPr/>
          <p:nvPr/>
        </p:nvSpPr>
        <p:spPr>
          <a:xfrm>
            <a:off x="728640" y="2763720"/>
            <a:ext cx="56721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矩形 131075"/>
          <p:cNvSpPr/>
          <p:nvPr/>
        </p:nvSpPr>
        <p:spPr>
          <a:xfrm>
            <a:off x="2527200" y="3390840"/>
            <a:ext cx="43261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矩形 131076"/>
          <p:cNvSpPr/>
          <p:nvPr/>
        </p:nvSpPr>
        <p:spPr>
          <a:xfrm>
            <a:off x="708120" y="4592520"/>
            <a:ext cx="76755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矩形 131077"/>
          <p:cNvSpPr/>
          <p:nvPr/>
        </p:nvSpPr>
        <p:spPr>
          <a:xfrm>
            <a:off x="542880" y="5178600"/>
            <a:ext cx="767556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5" name="图片 130049" descr=""/>
          <p:cNvPicPr/>
          <p:nvPr/>
        </p:nvPicPr>
        <p:blipFill>
          <a:blip r:embed="rId1"/>
          <a:stretch/>
        </p:blipFill>
        <p:spPr>
          <a:xfrm>
            <a:off x="312840" y="958680"/>
            <a:ext cx="8086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图片 129025" descr=""/>
          <p:cNvPicPr/>
          <p:nvPr/>
        </p:nvPicPr>
        <p:blipFill>
          <a:blip r:embed="rId1"/>
          <a:stretch/>
        </p:blipFill>
        <p:spPr>
          <a:xfrm>
            <a:off x="563400" y="917640"/>
            <a:ext cx="7991640" cy="474336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9026"/>
          <p:cNvSpPr/>
          <p:nvPr/>
        </p:nvSpPr>
        <p:spPr>
          <a:xfrm>
            <a:off x="1057320" y="1058760"/>
            <a:ext cx="234324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9027"/>
          <p:cNvSpPr/>
          <p:nvPr/>
        </p:nvSpPr>
        <p:spPr>
          <a:xfrm>
            <a:off x="379440" y="1633680"/>
            <a:ext cx="819000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9028"/>
          <p:cNvSpPr/>
          <p:nvPr/>
        </p:nvSpPr>
        <p:spPr>
          <a:xfrm>
            <a:off x="963720" y="2846520"/>
            <a:ext cx="764532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9029"/>
          <p:cNvSpPr/>
          <p:nvPr/>
        </p:nvSpPr>
        <p:spPr>
          <a:xfrm>
            <a:off x="942840" y="3441600"/>
            <a:ext cx="764568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9030"/>
          <p:cNvSpPr/>
          <p:nvPr/>
        </p:nvSpPr>
        <p:spPr>
          <a:xfrm>
            <a:off x="922320" y="4068720"/>
            <a:ext cx="76453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9031"/>
          <p:cNvSpPr/>
          <p:nvPr/>
        </p:nvSpPr>
        <p:spPr>
          <a:xfrm>
            <a:off x="933480" y="4653000"/>
            <a:ext cx="764532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9032"/>
          <p:cNvSpPr/>
          <p:nvPr/>
        </p:nvSpPr>
        <p:spPr>
          <a:xfrm>
            <a:off x="933480" y="5278320"/>
            <a:ext cx="76453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图片 140289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77280" cy="3867120"/>
          </a:xfrm>
          <a:prstGeom prst="rect">
            <a:avLst/>
          </a:prstGeom>
          <a:ln w="0">
            <a:noFill/>
          </a:ln>
        </p:spPr>
      </p:pic>
      <p:sp>
        <p:nvSpPr>
          <p:cNvPr id="1345" name="矩形 140290"/>
          <p:cNvSpPr/>
          <p:nvPr/>
        </p:nvSpPr>
        <p:spPr>
          <a:xfrm>
            <a:off x="2176560" y="1838160"/>
            <a:ext cx="5554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40291"/>
          <p:cNvSpPr/>
          <p:nvPr/>
        </p:nvSpPr>
        <p:spPr>
          <a:xfrm>
            <a:off x="3276720" y="1838160"/>
            <a:ext cx="8236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40292"/>
          <p:cNvSpPr/>
          <p:nvPr/>
        </p:nvSpPr>
        <p:spPr>
          <a:xfrm>
            <a:off x="4818240" y="1838160"/>
            <a:ext cx="10396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40293"/>
          <p:cNvSpPr/>
          <p:nvPr/>
        </p:nvSpPr>
        <p:spPr>
          <a:xfrm>
            <a:off x="3164040" y="2290680"/>
            <a:ext cx="8236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40294"/>
          <p:cNvSpPr/>
          <p:nvPr/>
        </p:nvSpPr>
        <p:spPr>
          <a:xfrm>
            <a:off x="6667560" y="2290680"/>
            <a:ext cx="8236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40295"/>
          <p:cNvSpPr/>
          <p:nvPr/>
        </p:nvSpPr>
        <p:spPr>
          <a:xfrm>
            <a:off x="3513240" y="2722680"/>
            <a:ext cx="823680" cy="27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40296"/>
          <p:cNvSpPr/>
          <p:nvPr/>
        </p:nvSpPr>
        <p:spPr>
          <a:xfrm>
            <a:off x="1325520" y="3174840"/>
            <a:ext cx="106992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40297"/>
          <p:cNvSpPr/>
          <p:nvPr/>
        </p:nvSpPr>
        <p:spPr>
          <a:xfrm>
            <a:off x="7129440" y="36068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40298"/>
          <p:cNvSpPr/>
          <p:nvPr/>
        </p:nvSpPr>
        <p:spPr>
          <a:xfrm>
            <a:off x="1776240" y="4068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40299"/>
          <p:cNvSpPr/>
          <p:nvPr/>
        </p:nvSpPr>
        <p:spPr>
          <a:xfrm>
            <a:off x="6573960" y="4068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40300"/>
          <p:cNvSpPr/>
          <p:nvPr/>
        </p:nvSpPr>
        <p:spPr>
          <a:xfrm>
            <a:off x="1303200" y="45212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0" name="图片 139265" descr=""/>
          <p:cNvPicPr/>
          <p:nvPr/>
        </p:nvPicPr>
        <p:blipFill>
          <a:blip r:embed="rId1"/>
          <a:stretch/>
        </p:blipFill>
        <p:spPr>
          <a:xfrm>
            <a:off x="326880" y="952560"/>
            <a:ext cx="8515440" cy="449568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139266" descr=""/>
          <p:cNvPicPr/>
          <p:nvPr/>
        </p:nvPicPr>
        <p:blipFill>
          <a:blip r:embed="rId2"/>
          <a:stretch/>
        </p:blipFill>
        <p:spPr>
          <a:xfrm>
            <a:off x="252360" y="5600880"/>
            <a:ext cx="8562960" cy="761760"/>
          </a:xfrm>
          <a:prstGeom prst="rect">
            <a:avLst/>
          </a:prstGeom>
          <a:ln w="0">
            <a:noFill/>
          </a:ln>
        </p:spPr>
      </p:pic>
      <p:sp>
        <p:nvSpPr>
          <p:cNvPr id="1362" name="矩形 139267"/>
          <p:cNvSpPr/>
          <p:nvPr/>
        </p:nvSpPr>
        <p:spPr>
          <a:xfrm>
            <a:off x="8228160" y="18288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9268"/>
          <p:cNvSpPr/>
          <p:nvPr/>
        </p:nvSpPr>
        <p:spPr>
          <a:xfrm>
            <a:off x="8218440" y="40482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9269"/>
          <p:cNvSpPr/>
          <p:nvPr/>
        </p:nvSpPr>
        <p:spPr>
          <a:xfrm>
            <a:off x="8207280" y="56102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9" name="图片 138241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477280" cy="4753080"/>
          </a:xfrm>
          <a:prstGeom prst="rect">
            <a:avLst/>
          </a:prstGeom>
          <a:ln w="0">
            <a:noFill/>
          </a:ln>
        </p:spPr>
      </p:pic>
      <p:sp>
        <p:nvSpPr>
          <p:cNvPr id="1370" name="矩形 138242"/>
          <p:cNvSpPr/>
          <p:nvPr/>
        </p:nvSpPr>
        <p:spPr>
          <a:xfrm>
            <a:off x="5084640" y="8524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8243"/>
          <p:cNvSpPr/>
          <p:nvPr/>
        </p:nvSpPr>
        <p:spPr>
          <a:xfrm>
            <a:off x="8207280" y="8524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8244"/>
          <p:cNvSpPr/>
          <p:nvPr/>
        </p:nvSpPr>
        <p:spPr>
          <a:xfrm>
            <a:off x="1900080" y="2835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8245"/>
          <p:cNvSpPr/>
          <p:nvPr/>
        </p:nvSpPr>
        <p:spPr>
          <a:xfrm>
            <a:off x="3718080" y="2835360"/>
            <a:ext cx="514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8246"/>
          <p:cNvSpPr/>
          <p:nvPr/>
        </p:nvSpPr>
        <p:spPr>
          <a:xfrm>
            <a:off x="5629320" y="2835360"/>
            <a:ext cx="514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8247"/>
          <p:cNvSpPr/>
          <p:nvPr/>
        </p:nvSpPr>
        <p:spPr>
          <a:xfrm>
            <a:off x="1920960" y="3317760"/>
            <a:ext cx="514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138248"/>
          <p:cNvSpPr/>
          <p:nvPr/>
        </p:nvSpPr>
        <p:spPr>
          <a:xfrm>
            <a:off x="3956040" y="3317760"/>
            <a:ext cx="514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8249"/>
          <p:cNvSpPr/>
          <p:nvPr/>
        </p:nvSpPr>
        <p:spPr>
          <a:xfrm>
            <a:off x="658800" y="4983120"/>
            <a:ext cx="6350040" cy="7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图片 137217" descr=""/>
          <p:cNvPicPr/>
          <p:nvPr/>
        </p:nvPicPr>
        <p:blipFill>
          <a:blip r:embed="rId1"/>
          <a:stretch/>
        </p:blipFill>
        <p:spPr>
          <a:xfrm>
            <a:off x="299880" y="880920"/>
            <a:ext cx="8087040" cy="4257720"/>
          </a:xfrm>
          <a:prstGeom prst="rect">
            <a:avLst/>
          </a:prstGeom>
          <a:ln w="0">
            <a:noFill/>
          </a:ln>
        </p:spPr>
      </p:pic>
      <p:sp>
        <p:nvSpPr>
          <p:cNvPr id="1383" name="矩形 137218"/>
          <p:cNvSpPr/>
          <p:nvPr/>
        </p:nvSpPr>
        <p:spPr>
          <a:xfrm>
            <a:off x="7613640" y="4140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图片 136193" descr=""/>
          <p:cNvPicPr/>
          <p:nvPr/>
        </p:nvPicPr>
        <p:blipFill>
          <a:blip r:embed="rId1"/>
          <a:stretch/>
        </p:blipFill>
        <p:spPr>
          <a:xfrm>
            <a:off x="336600" y="855720"/>
            <a:ext cx="8039160" cy="4638600"/>
          </a:xfrm>
          <a:prstGeom prst="rect">
            <a:avLst/>
          </a:prstGeom>
          <a:ln w="0">
            <a:noFill/>
          </a:ln>
        </p:spPr>
      </p:pic>
      <p:sp>
        <p:nvSpPr>
          <p:cNvPr id="1389" name="矩形 136194"/>
          <p:cNvSpPr/>
          <p:nvPr/>
        </p:nvSpPr>
        <p:spPr>
          <a:xfrm>
            <a:off x="7674120" y="19321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36195"/>
          <p:cNvSpPr/>
          <p:nvPr/>
        </p:nvSpPr>
        <p:spPr>
          <a:xfrm>
            <a:off x="7653240" y="38941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图片 135169" descr=""/>
          <p:cNvPicPr/>
          <p:nvPr/>
        </p:nvPicPr>
        <p:blipFill>
          <a:blip r:embed="rId1"/>
          <a:stretch/>
        </p:blipFill>
        <p:spPr>
          <a:xfrm>
            <a:off x="347760" y="927000"/>
            <a:ext cx="8067600" cy="5562720"/>
          </a:xfrm>
          <a:prstGeom prst="rect">
            <a:avLst/>
          </a:prstGeom>
          <a:ln w="0">
            <a:noFill/>
          </a:ln>
        </p:spPr>
      </p:pic>
      <p:sp>
        <p:nvSpPr>
          <p:cNvPr id="1396" name="矩形 135170"/>
          <p:cNvSpPr/>
          <p:nvPr/>
        </p:nvSpPr>
        <p:spPr>
          <a:xfrm>
            <a:off x="2373480" y="2290680"/>
            <a:ext cx="668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135171"/>
          <p:cNvSpPr/>
          <p:nvPr/>
        </p:nvSpPr>
        <p:spPr>
          <a:xfrm>
            <a:off x="6400800" y="2290680"/>
            <a:ext cx="668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135172"/>
          <p:cNvSpPr/>
          <p:nvPr/>
        </p:nvSpPr>
        <p:spPr>
          <a:xfrm>
            <a:off x="4643280" y="4900680"/>
            <a:ext cx="668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3" name="图片 134145" descr=""/>
          <p:cNvPicPr/>
          <p:nvPr/>
        </p:nvPicPr>
        <p:blipFill>
          <a:blip r:embed="rId1"/>
          <a:stretch/>
        </p:blipFill>
        <p:spPr>
          <a:xfrm>
            <a:off x="233280" y="873000"/>
            <a:ext cx="8143920" cy="4857840"/>
          </a:xfrm>
          <a:prstGeom prst="rect">
            <a:avLst/>
          </a:prstGeom>
          <a:ln w="0">
            <a:noFill/>
          </a:ln>
        </p:spPr>
      </p:pic>
      <p:sp>
        <p:nvSpPr>
          <p:cNvPr id="1404" name="矩形 134146"/>
          <p:cNvSpPr/>
          <p:nvPr/>
        </p:nvSpPr>
        <p:spPr>
          <a:xfrm>
            <a:off x="811080" y="3483000"/>
            <a:ext cx="7707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134147"/>
          <p:cNvSpPr/>
          <p:nvPr/>
        </p:nvSpPr>
        <p:spPr>
          <a:xfrm>
            <a:off x="687240" y="4160880"/>
            <a:ext cx="7707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矩形 134148"/>
          <p:cNvSpPr/>
          <p:nvPr/>
        </p:nvSpPr>
        <p:spPr>
          <a:xfrm>
            <a:off x="606600" y="4818240"/>
            <a:ext cx="6053040" cy="88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1" name="图片 133121" descr=""/>
          <p:cNvPicPr/>
          <p:nvPr/>
        </p:nvPicPr>
        <p:blipFill>
          <a:blip r:embed="rId1"/>
          <a:stretch/>
        </p:blipFill>
        <p:spPr>
          <a:xfrm>
            <a:off x="216000" y="912960"/>
            <a:ext cx="8001000" cy="307656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33122" descr=""/>
          <p:cNvPicPr/>
          <p:nvPr/>
        </p:nvPicPr>
        <p:blipFill>
          <a:blip r:embed="rId2"/>
          <a:stretch/>
        </p:blipFill>
        <p:spPr>
          <a:xfrm>
            <a:off x="993600" y="4200480"/>
            <a:ext cx="7410600" cy="2343240"/>
          </a:xfrm>
          <a:prstGeom prst="rect">
            <a:avLst/>
          </a:prstGeom>
          <a:ln w="0">
            <a:noFill/>
          </a:ln>
        </p:spPr>
      </p:pic>
      <p:sp>
        <p:nvSpPr>
          <p:cNvPr id="1413" name="矩形 133123"/>
          <p:cNvSpPr/>
          <p:nvPr/>
        </p:nvSpPr>
        <p:spPr>
          <a:xfrm>
            <a:off x="1006560" y="4952880"/>
            <a:ext cx="75009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133124"/>
          <p:cNvSpPr/>
          <p:nvPr/>
        </p:nvSpPr>
        <p:spPr>
          <a:xfrm>
            <a:off x="4078440" y="44179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矩形 133125"/>
          <p:cNvSpPr/>
          <p:nvPr/>
        </p:nvSpPr>
        <p:spPr>
          <a:xfrm>
            <a:off x="1089000" y="5578560"/>
            <a:ext cx="3473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矩形 133126"/>
          <p:cNvSpPr/>
          <p:nvPr/>
        </p:nvSpPr>
        <p:spPr>
          <a:xfrm>
            <a:off x="1036800" y="6154560"/>
            <a:ext cx="34732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8:06:17Z</dcterms:modified>
  <cp:revision>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